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41.png" ContentType="image/png"/>
  <Override PartName="/ppt/media/image42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A1D-42EC-4E9F-BDB5-FA54C0AE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AF1-13DA-4223-B90B-B78C1FD5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3F6-77ED-42E5-967D-A74D0188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BD4-26AD-4A14-923E-CA594922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7709-C666-4F3F-A40D-77C43DED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45FE-7A27-4F4C-803E-6363F343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9741-5E1C-436D-8DDB-6A7A719C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B814-233B-43FD-94E1-639CB999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20D5-03A5-46B8-B5E3-5554FFFC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B305-C246-49DA-842C-36C8B21B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3D4-1A87-4840-972D-BE82455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C07-2578-4FDB-A880-EFFDA22E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4908-A5AE-48DB-AF3B-E4DB4132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CF82-C750-4CCA-A559-D3F1ABE9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D96B-AB7E-495C-A8A9-95A9B02E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1431-E73D-4853-9912-51E84DDC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60C9-2D63-4A70-AA7A-925FCAC2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DA0-B12D-4E57-8D51-B0A919DE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B27-3A13-4260-808A-D0138692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B68-7DBA-4787-8672-CFC339EF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2E7-6AFB-4FB7-898D-7F73A0F0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1F1-22CD-4230-BF3C-4AD1EA49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3BD-A7F3-46A6-8630-5562FC62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44D-1DCF-4033-80B4-639665E4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B33-D558-4AC0-9F21-2391AC119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295e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4E90-078A-4876-BF64-1A66C13962E0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5"/>
          <p:cNvSpPr/>
          <p:nvPr/>
        </p:nvSpPr>
        <p:spPr>
          <a:xfrm>
            <a:off x="2057400" y="236232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Georgia"/>
              </a:rPr>
              <a:t>Mesopotamia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84" name="Picture 4" descr="MEast person-12"/>
          <p:cNvPicPr/>
          <p:nvPr/>
        </p:nvPicPr>
        <p:blipFill>
          <a:blip r:embed="rId1"/>
          <a:stretch/>
        </p:blipFill>
        <p:spPr>
          <a:xfrm>
            <a:off x="228600" y="304920"/>
            <a:ext cx="1828800" cy="168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East person-1"/>
          <p:cNvPicPr/>
          <p:nvPr/>
        </p:nvPicPr>
        <p:blipFill>
          <a:blip r:embed="rId2"/>
          <a:stretch/>
        </p:blipFill>
        <p:spPr>
          <a:xfrm>
            <a:off x="2354400" y="38088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MEast person-4"/>
          <p:cNvPicPr/>
          <p:nvPr/>
        </p:nvPicPr>
        <p:blipFill>
          <a:blip r:embed="rId3">
            <a:lum contrast="12000"/>
          </a:blip>
          <a:srcRect l="15044" t="15004" r="13562" b="10008"/>
          <a:stretch/>
        </p:blipFill>
        <p:spPr>
          <a:xfrm>
            <a:off x="3649680" y="228600"/>
            <a:ext cx="130320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East person-5"/>
          <p:cNvPicPr/>
          <p:nvPr/>
        </p:nvPicPr>
        <p:blipFill>
          <a:blip r:embed="rId4"/>
          <a:stretch/>
        </p:blipFill>
        <p:spPr>
          <a:xfrm>
            <a:off x="7421400" y="2362320"/>
            <a:ext cx="1441440" cy="207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MEast person-6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6781680" y="304920"/>
            <a:ext cx="2210040" cy="1473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MEast person-8"/>
          <p:cNvPicPr/>
          <p:nvPr/>
        </p:nvPicPr>
        <p:blipFill>
          <a:blip r:embed="rId6"/>
          <a:stretch/>
        </p:blipFill>
        <p:spPr>
          <a:xfrm>
            <a:off x="304920" y="5181480"/>
            <a:ext cx="1647720" cy="149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MEast person-9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7315200" y="4800600"/>
            <a:ext cx="1482840" cy="180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MEast person-10"/>
          <p:cNvPicPr/>
          <p:nvPr/>
        </p:nvPicPr>
        <p:blipFill>
          <a:blip r:embed="rId8"/>
          <a:srcRect l="23451" t="3492" r="25015" b="0"/>
          <a:stretch/>
        </p:blipFill>
        <p:spPr>
          <a:xfrm>
            <a:off x="533520" y="2286000"/>
            <a:ext cx="103176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MEast person-11"/>
          <p:cNvPicPr/>
          <p:nvPr/>
        </p:nvPicPr>
        <p:blipFill>
          <a:blip r:embed="rId9">
            <a:lum contrast="6000"/>
          </a:blip>
          <a:stretch/>
        </p:blipFill>
        <p:spPr>
          <a:xfrm>
            <a:off x="5410080" y="419040"/>
            <a:ext cx="951120" cy="1790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8"/>
          <p:cNvSpPr/>
          <p:nvPr/>
        </p:nvSpPr>
        <p:spPr>
          <a:xfrm>
            <a:off x="2438280" y="5689440"/>
            <a:ext cx="4191120" cy="862560"/>
          </a:xfrm>
          <a:prstGeom prst="rect">
            <a:avLst/>
          </a:prstGeom>
          <a:noFill/>
          <a:ln w="9360">
            <a:solidFill>
              <a:srgbClr val="fcc186"/>
            </a:solidFill>
            <a:miter/>
          </a:ln>
          <a:effectLst>
            <a:outerShdw dist="17819" dir="2700000" blurRad="0" rotWithShape="0">
              <a:srgbClr val="fcc1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. Pagliaro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ymour High Schoo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4" name="Picture 21" descr="http://mesopotamia.mrdonn.org/meso01.gif"/>
          <p:cNvPicPr/>
          <p:nvPr/>
        </p:nvPicPr>
        <p:blipFill>
          <a:blip r:embed="rId10"/>
          <a:stretch/>
        </p:blipFill>
        <p:spPr>
          <a:xfrm>
            <a:off x="1752480" y="1371600"/>
            <a:ext cx="58676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80880" y="318960"/>
            <a:ext cx="8534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Arial"/>
              </a:rPr>
              <a:t>Sumerian Cylinder Seals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Akkadian Cylinder Seal"/>
          <p:cNvPicPr/>
          <p:nvPr/>
        </p:nvPicPr>
        <p:blipFill>
          <a:blip r:embed="rId1"/>
          <a:stretch/>
        </p:blipFill>
        <p:spPr>
          <a:xfrm>
            <a:off x="914400" y="2133720"/>
            <a:ext cx="75438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57200" y="15228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Gilgamesh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3" descr="Gilgamesh"/>
          <p:cNvPicPr/>
          <p:nvPr/>
        </p:nvPicPr>
        <p:blipFill>
          <a:blip r:embed="rId1"/>
          <a:srcRect l="19667" t="4351" r="0" b="3044"/>
          <a:stretch/>
        </p:blipFill>
        <p:spPr>
          <a:xfrm>
            <a:off x="2819520" y="1143000"/>
            <a:ext cx="3632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04920" y="166680"/>
            <a:ext cx="85341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Gilgamesh Epic Tablet:</a:t>
            </a:r>
            <a:br>
              <a:rPr sz="4400"/>
            </a:b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Flood Story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8" name="Picture 3" descr="Gilgamesh epic - flood tablet"/>
          <p:cNvPicPr/>
          <p:nvPr/>
        </p:nvPicPr>
        <p:blipFill>
          <a:blip r:embed="rId1"/>
          <a:stretch/>
        </p:blipFill>
        <p:spPr>
          <a:xfrm>
            <a:off x="2362320" y="1689120"/>
            <a:ext cx="43686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457200" y="22860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2d050"/>
                </a:solidFill>
                <a:latin typeface="Arial"/>
              </a:rPr>
              <a:t>Ziggurat</a:t>
            </a:r>
            <a:r>
              <a:rPr b="1" lang="en-US" sz="5400" spc="-1" strike="noStrike">
                <a:solidFill>
                  <a:srgbClr val="fcc186"/>
                </a:solidFill>
                <a:latin typeface="Arial"/>
              </a:rPr>
              <a:t> at Ur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3" descr="Aerial view of remains of Ur ziggarut"/>
          <p:cNvPicPr/>
          <p:nvPr/>
        </p:nvPicPr>
        <p:blipFill>
          <a:blip r:embed="rId1"/>
          <a:srcRect l="3947" t="3871" r="0" b="0"/>
          <a:stretch/>
        </p:blipFill>
        <p:spPr>
          <a:xfrm>
            <a:off x="3581280" y="1295280"/>
            <a:ext cx="5410440" cy="3676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Ur ziggarut reconstruction"/>
          <p:cNvPicPr/>
          <p:nvPr/>
        </p:nvPicPr>
        <p:blipFill>
          <a:blip r:embed="rId2"/>
          <a:stretch/>
        </p:blipFill>
        <p:spPr>
          <a:xfrm>
            <a:off x="304920" y="4286160"/>
            <a:ext cx="3962160" cy="2247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533520" y="1828800"/>
            <a:ext cx="251460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 </a:t>
            </a: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Templ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 “</a:t>
            </a: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Mountain of  the Gods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457200" y="30492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186"/>
                </a:solidFill>
                <a:latin typeface="Arial"/>
              </a:rPr>
              <a:t>The Royal Standard of Ur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5" descr="Royal Standard of Ur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4920" y="166680"/>
            <a:ext cx="8534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186"/>
                </a:solidFill>
                <a:latin typeface="Arial"/>
              </a:rPr>
              <a:t>Mesopotamian Harp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6" name="Picture 3" descr="Mesopotamian bull"/>
          <p:cNvPicPr/>
          <p:nvPr/>
        </p:nvPicPr>
        <p:blipFill>
          <a:blip r:embed="rId1"/>
          <a:stretch/>
        </p:blipFill>
        <p:spPr>
          <a:xfrm>
            <a:off x="5064120" y="1676520"/>
            <a:ext cx="3546360" cy="441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Mesopotamian harp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85800" y="1371600"/>
            <a:ext cx="357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457200" y="30492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c186"/>
                </a:solidFill>
                <a:latin typeface="Arial"/>
              </a:rPr>
              <a:t>Board Game From Ur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9" name="Picture 4" descr="Board Game from Ur"/>
          <p:cNvPicPr/>
          <p:nvPr/>
        </p:nvPicPr>
        <p:blipFill>
          <a:blip r:embed="rId1"/>
          <a:srcRect l="0" t="0" r="1234" b="0"/>
          <a:stretch/>
        </p:blipFill>
        <p:spPr>
          <a:xfrm>
            <a:off x="914400" y="2057400"/>
            <a:ext cx="73915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152280"/>
            <a:ext cx="83818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c186"/>
                </a:solidFill>
                <a:latin typeface="Arial"/>
              </a:rPr>
              <a:t>Sophisticated Metallurgy Skills</a:t>
            </a:r>
            <a:br>
              <a:rPr sz="4800"/>
            </a:br>
            <a:r>
              <a:rPr b="1" lang="en-US" sz="4800" spc="-1" strike="noStrike">
                <a:solidFill>
                  <a:srgbClr val="fcc186"/>
                </a:solidFill>
                <a:latin typeface="Arial"/>
              </a:rPr>
              <a:t>at Ur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1" name="Picture 3" descr="Mesop-Ur-Helme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114800" y="1781280"/>
            <a:ext cx="4800600" cy="4467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Gold Headress from Mari"/>
          <p:cNvPicPr/>
          <p:nvPr/>
        </p:nvPicPr>
        <p:blipFill>
          <a:blip r:embed="rId2"/>
          <a:stretch/>
        </p:blipFill>
        <p:spPr>
          <a:xfrm>
            <a:off x="762120" y="1295280"/>
            <a:ext cx="2817720" cy="5168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5029200" y="6273720"/>
            <a:ext cx="281952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urier New"/>
                <a:ea typeface="Courier New"/>
              </a:rPr>
              <a:t>Bronze Ag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merian Inventi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123720" y="13716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Water clock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12 month calendar based on lunar cycl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1st writing system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The whe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The plow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82c00"/>
                </a:solidFill>
                <a:latin typeface="Arial"/>
              </a:rPr>
              <a:t>The sailbo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82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6" name="Picture 2" descr="http://4.bp.blogspot.com/_BoREfO9UDVw/R1x1--0i7BI/AAAAAAAAABY/03xcEmvM4t8/s320/Mesopotamian+boat+2500+BCE.jpg"/>
          <p:cNvPicPr/>
          <p:nvPr/>
        </p:nvPicPr>
        <p:blipFill>
          <a:blip r:embed="rId1"/>
          <a:stretch/>
        </p:blipFill>
        <p:spPr>
          <a:xfrm>
            <a:off x="457200" y="2438280"/>
            <a:ext cx="20383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228600" y="228600"/>
            <a:ext cx="8686800" cy="22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2d050"/>
                </a:solidFill>
                <a:latin typeface="Arial"/>
              </a:rPr>
              <a:t>Sargon of Akkad:</a:t>
            </a:r>
            <a:br>
              <a:rPr sz="5400"/>
            </a:b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The World’s First Empire [Akkadians]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8" name="Picture 6" descr="Sargon-1"/>
          <p:cNvPicPr/>
          <p:nvPr/>
        </p:nvPicPr>
        <p:blipFill>
          <a:blip r:embed="rId1"/>
          <a:stretch/>
        </p:blipFill>
        <p:spPr>
          <a:xfrm>
            <a:off x="7467480" y="3048120"/>
            <a:ext cx="1374840" cy="2438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Sargon-2"/>
          <p:cNvPicPr/>
          <p:nvPr/>
        </p:nvPicPr>
        <p:blipFill>
          <a:blip r:embed="rId2"/>
          <a:stretch/>
        </p:blipFill>
        <p:spPr>
          <a:xfrm>
            <a:off x="228600" y="3352680"/>
            <a:ext cx="1684440" cy="2438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map-Akkadian Empire"/>
          <p:cNvPicPr/>
          <p:nvPr/>
        </p:nvPicPr>
        <p:blipFill>
          <a:blip r:embed="rId3"/>
          <a:stretch/>
        </p:blipFill>
        <p:spPr>
          <a:xfrm>
            <a:off x="2057400" y="2735280"/>
            <a:ext cx="52322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600200" y="1523880"/>
            <a:ext cx="60199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1.  Mesopotamia:</a:t>
            </a:r>
            <a:endParaRPr b="0" lang="en-US" sz="2400" spc="1" strike="noStrike">
              <a:ln w="19080">
                <a:solidFill>
                  <a:srgbClr val="0000cc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"Land Between</a:t>
            </a:r>
            <a:endParaRPr b="0" lang="en-US" sz="2400" spc="1" strike="noStrike">
              <a:ln w="19080">
                <a:solidFill>
                  <a:srgbClr val="0000cc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the Two Rivers"</a:t>
            </a:r>
            <a:endParaRPr b="0" lang="en-US" sz="2400" spc="1" strike="noStrike">
              <a:ln w="19080">
                <a:solidFill>
                  <a:srgbClr val="0000cc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457200" y="228600"/>
            <a:ext cx="83818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b0f0"/>
                </a:solidFill>
                <a:latin typeface="Arial"/>
              </a:rPr>
              <a:t>The Babylonian Empires</a:t>
            </a:r>
            <a:endParaRPr b="0" lang="en-US" sz="5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2" name="Picture 5" descr="map-Babylonian Empires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524484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ammurabi Code-total stele"/>
          <p:cNvPicPr/>
          <p:nvPr/>
        </p:nvPicPr>
        <p:blipFill>
          <a:blip r:embed="rId1"/>
          <a:stretch/>
        </p:blipFill>
        <p:spPr>
          <a:xfrm>
            <a:off x="1066680" y="1219320"/>
            <a:ext cx="3481560" cy="525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Hammurabi"/>
          <p:cNvPicPr/>
          <p:nvPr/>
        </p:nvPicPr>
        <p:blipFill>
          <a:blip r:embed="rId2"/>
          <a:srcRect l="7052" t="0" r="6609" b="15339"/>
          <a:stretch/>
        </p:blipFill>
        <p:spPr>
          <a:xfrm>
            <a:off x="4495680" y="1219320"/>
            <a:ext cx="3733920" cy="5257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457200" y="228600"/>
            <a:ext cx="83818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2d050"/>
                </a:solidFill>
                <a:latin typeface="Arial"/>
              </a:rPr>
              <a:t>Hammurabi’s  </a:t>
            </a: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[r. 1792-1750 B. C.]</a:t>
            </a:r>
            <a:r>
              <a:rPr b="1" lang="en-US" sz="5400" spc="-1" strike="noStrike">
                <a:solidFill>
                  <a:srgbClr val="92d050"/>
                </a:solidFill>
                <a:latin typeface="Arial"/>
              </a:rPr>
              <a:t> Code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457200" y="22860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c186"/>
                </a:solidFill>
                <a:latin typeface="Arial"/>
              </a:rPr>
              <a:t>Babylonian Math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7" name="Picture 3" descr="ancient Babylonian math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00200" y="1600200"/>
            <a:ext cx="6019920" cy="45226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68580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Arial"/>
              </a:rPr>
              <a:t>Base 60 math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457200" y="15228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c186"/>
                </a:solidFill>
                <a:latin typeface="Arial"/>
              </a:rPr>
              <a:t>Babylonian Numbers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0" name="Picture 4" descr="Babylonian_symbol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62120" y="1447920"/>
            <a:ext cx="767700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2280" y="152280"/>
            <a:ext cx="88394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Arial"/>
              </a:rPr>
              <a:t>The Ancient Fertile Crescent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7" name="Picture 3" descr="map-Fertile Crescen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1143000"/>
            <a:ext cx="670572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04920" y="6172200"/>
            <a:ext cx="8610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chitect"/>
              </a:rPr>
              <a:t>   </a:t>
            </a: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The Middle East:  “The Cradle of Civilization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57200" y="15228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Arial"/>
              </a:rPr>
              <a:t>Sumerians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0" name="Picture 4" descr="Sumerian Statuette-3M"/>
          <p:cNvPicPr/>
          <p:nvPr/>
        </p:nvPicPr>
        <p:blipFill>
          <a:blip r:embed="rId1"/>
          <a:stretch/>
        </p:blipFill>
        <p:spPr>
          <a:xfrm>
            <a:off x="1752480" y="1219320"/>
            <a:ext cx="2011320" cy="514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umerian Prince of Lagash"/>
          <p:cNvPicPr/>
          <p:nvPr/>
        </p:nvPicPr>
        <p:blipFill>
          <a:blip r:embed="rId2"/>
          <a:srcRect l="13572" t="0" r="14088" b="0"/>
          <a:stretch/>
        </p:blipFill>
        <p:spPr>
          <a:xfrm>
            <a:off x="5300640" y="1143000"/>
            <a:ext cx="2090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57200" y="3189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Sumerian Religion </a:t>
            </a:r>
            <a:r>
              <a:rPr b="1" lang="en-US" sz="4000" spc="-1" strike="noStrike">
                <a:solidFill>
                  <a:srgbClr val="fcc186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Polytheistic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3" name="Picture 5" descr="enki"/>
          <p:cNvPicPr/>
          <p:nvPr/>
        </p:nvPicPr>
        <p:blipFill>
          <a:blip r:embed="rId1"/>
          <a:srcRect l="0" t="0" r="0" b="23383"/>
          <a:stretch/>
        </p:blipFill>
        <p:spPr>
          <a:xfrm>
            <a:off x="685800" y="1690560"/>
            <a:ext cx="4181400" cy="3295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905120" y="5119560"/>
            <a:ext cx="129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Enki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5" name="Picture 7" descr="SUmerian goddess-Inanna"/>
          <p:cNvPicPr/>
          <p:nvPr/>
        </p:nvPicPr>
        <p:blipFill>
          <a:blip r:embed="rId2"/>
          <a:stretch/>
        </p:blipFill>
        <p:spPr>
          <a:xfrm>
            <a:off x="5638680" y="1538280"/>
            <a:ext cx="2641680" cy="3505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6172200" y="5119560"/>
            <a:ext cx="1600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Innan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438280" y="5943600"/>
            <a:ext cx="419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Anthropomorphic God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457200" y="22860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Arial"/>
              </a:rPr>
              <a:t>Mesopotamian Trade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102880" cy="4319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2590920" y="5943600"/>
            <a:ext cx="3733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   “</a:t>
            </a: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The Cuneiform World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H="1" flipV="1">
            <a:off x="2971800" y="4266720"/>
            <a:ext cx="914400" cy="17528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886200" y="4343040"/>
            <a:ext cx="533520" cy="16765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152280" y="304920"/>
            <a:ext cx="883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uneiform:</a:t>
            </a: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  “Wedge-Shaped” Writing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4" name="Picture 5" descr="Cuneiform-1"/>
          <p:cNvPicPr/>
          <p:nvPr/>
        </p:nvPicPr>
        <p:blipFill>
          <a:blip r:embed="rId1"/>
          <a:stretch/>
        </p:blipFill>
        <p:spPr>
          <a:xfrm>
            <a:off x="457200" y="1295280"/>
            <a:ext cx="3809880" cy="2524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esopotamia_writing"/>
          <p:cNvPicPr/>
          <p:nvPr/>
        </p:nvPicPr>
        <p:blipFill>
          <a:blip r:embed="rId2"/>
          <a:srcRect l="4168" t="0" r="3823" b="0"/>
          <a:stretch/>
        </p:blipFill>
        <p:spPr>
          <a:xfrm>
            <a:off x="1447920" y="408780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uneiform-Ebla-2400bce"/>
          <p:cNvPicPr/>
          <p:nvPr/>
        </p:nvPicPr>
        <p:blipFill>
          <a:blip r:embed="rId3"/>
          <a:srcRect l="11210" t="7146" r="12187" b="7146"/>
          <a:stretch/>
        </p:blipFill>
        <p:spPr>
          <a:xfrm>
            <a:off x="5410080" y="1523880"/>
            <a:ext cx="3124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57200" y="304920"/>
            <a:ext cx="83818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2d050"/>
                </a:solidFill>
                <a:latin typeface="Arial"/>
              </a:rPr>
              <a:t>Cuneiform Writing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8" name="Picture 7" descr="chart-Development of Cuneiform"/>
          <p:cNvPicPr/>
          <p:nvPr/>
        </p:nvPicPr>
        <p:blipFill>
          <a:blip r:embed="rId1"/>
          <a:stretch/>
        </p:blipFill>
        <p:spPr>
          <a:xfrm>
            <a:off x="1295280" y="1371600"/>
            <a:ext cx="6705720" cy="50292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cribe"/>
          <p:cNvPicPr/>
          <p:nvPr/>
        </p:nvPicPr>
        <p:blipFill>
          <a:blip r:embed="rId1"/>
          <a:stretch/>
        </p:blipFill>
        <p:spPr>
          <a:xfrm>
            <a:off x="5334120" y="3048120"/>
            <a:ext cx="3581280" cy="26874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pic>
        <p:nvPicPr>
          <p:cNvPr id="120" name="Picture 6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80880" y="1371600"/>
            <a:ext cx="4572000" cy="350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457200" y="228600"/>
            <a:ext cx="8381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Sumerian</a:t>
            </a:r>
            <a:r>
              <a:rPr b="1" lang="en-US" sz="4400" spc="-1" strike="noStrike">
                <a:solidFill>
                  <a:srgbClr val="fcc18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Scribe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85800" y="5029200"/>
            <a:ext cx="3733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   “</a:t>
            </a:r>
            <a:r>
              <a:rPr b="1" lang="en-US" sz="2800" spc="-1" strike="noStrike">
                <a:solidFill>
                  <a:srgbClr val="effa88"/>
                </a:solidFill>
                <a:latin typeface="Arial"/>
              </a:rPr>
              <a:t>Tablet House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31:24Z</dcterms:created>
  <dc:creator>Susan M. Pojer</dc:creator>
  <dc:description/>
  <dc:language>en-US</dc:language>
  <cp:lastModifiedBy>Christopher Pagliaro</cp:lastModifiedBy>
  <dcterms:modified xsi:type="dcterms:W3CDTF">2010-09-21T23:59:00Z</dcterms:modified>
  <cp:revision>218</cp:revision>
  <dc:subject/>
  <dc:title>Mesopotamia</dc:title>
</cp:coreProperties>
</file>